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18.png" ContentType="image/png"/>
  <Override PartName="/ppt/media/image17.png" ContentType="image/png"/>
  <Override PartName="/ppt/media/image2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BBE3-4304-4118-A161-4FC438869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0C6E-6443-405B-82DB-BA556C18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008A-6422-4037-81F0-ED81EFA10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7CA8-328A-48EA-8D30-3F6AF1536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8CBF-A641-4FD8-867E-7B9F33A81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0C3E-B6C6-4880-8A38-20C595A4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D47F-DB5E-48FB-9483-ECBDD48F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D5871-8911-4EF5-B9C8-3D550BA6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C21B-E481-4008-BEF9-653B9AE6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C259-0C0B-46EA-AFF2-D546FD96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D414-54A8-4DCC-B350-0BAFD505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0F5F-8171-403B-945C-AAAF6759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717D-85DE-4C6A-913A-7516F1AB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797F-ACF5-45E6-8E7B-F0061A89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7F00-D8CC-4D90-994F-77E3C1BE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9E4A-C479-43F4-A483-19DB0FD7E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1C2C-CD20-4CA8-ACFE-E8A4FF285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885E-B5EC-49F6-BC8A-E992FBBD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96D2-AADF-426F-B4CC-90D1BB38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2464-2ED4-4B81-9FC3-E0CE241B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AF2C-03E9-417A-B367-57F8D648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D660-F9B9-4B1E-82A6-723BB2C6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8351-2467-49D4-AC86-0CD6A7CD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DD87-FED9-4B89-AD7C-6BE1832C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CBD9-3332-4A62-A1E9-232CC93D45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62E4-6265-459E-B025-04C37668A8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podloga"/>
          <p:cNvPicPr/>
          <p:nvPr/>
        </p:nvPicPr>
        <p:blipFill>
          <a:blip r:embed="rId1"/>
          <a:stretch/>
        </p:blipFill>
        <p:spPr>
          <a:xfrm>
            <a:off x="611280" y="476280"/>
            <a:ext cx="7921440" cy="5931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1371600" y="4581360"/>
            <a:ext cx="64008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99"/>
                </a:solidFill>
                <a:latin typeface="Arial"/>
              </a:rPr>
              <a:t>Доц. др Катарина Парезановић Или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21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7b46d0"/>
                </a:solidFill>
                <a:latin typeface="France YU"/>
                <a:ea typeface="Times New Roman"/>
              </a:rPr>
              <a:t>МЕХАНОТЕРАПИЈА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ХИПОБАР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НЕ П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ЦЕ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ДУР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Вакум терапија је стара преко хиљаду година.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аиме, постоје записи да су стари Кинези стављаљем купица испод којих је био негативни притисак третирали одредјена обољења посебно из групе васкуларних пореме</a:t>
            </a:r>
            <a:r>
              <a:rPr b="0" lang="sr-C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ј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ХИПОБАР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НЕ П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ЦЕ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ДУР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Нема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ј је још 1830. гдоине кориш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а ова метода под називом “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ut massage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.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warschik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је детаљно разрадио ову методу и објаснио физиолошки нацин деловања ове терапије на организам. Основни део је стаклена купа која се поставља на одре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ђ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и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гмент тела који се намазе парафинским уљем и помо</a:t>
            </a:r>
            <a:r>
              <a:rPr b="0" lang="sl-SI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вакум пумпе из купе се излваци ваздух и ствара се негативни притисак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ХИПОБАР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НЕ П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ЦЕ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ДУР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 данашњих апарата кјои се користе, познат је "Васкулатор" и новијег датума "Ва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ац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ац терапија је најпре поцела да се примењује у Данској, да би задњих година добила знацајно место у целом свету као један битан физикални фактор у превенцији и лецењу многих обољењ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Ко</a:t>
            </a:r>
            <a:r>
              <a:rPr b="0" lang="en-U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мбинација подпритиска и надпритиска повецава пумпно дејство тела тако да стимулише циркулацију крви и те</a:t>
            </a:r>
            <a:r>
              <a:rPr b="0" lang="sr-C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ости у ткиву, а што утице на побољшање процеса размене материја у </a:t>
            </a:r>
            <a:r>
              <a:rPr b="0" lang="sr-C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лији. Експериментални радови су потврдили стварање васодилататорних материја (серотонин, хистамин). Долази до пове</a:t>
            </a:r>
            <a:r>
              <a:rPr b="0" lang="sr-C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не елиминације распадних продуката метаболизма. Истовремено преко рецептора козе делује се и на више  нивое централног нервног систем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ХИПОБАР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НЕ П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ЦЕ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ДУР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99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ХИПОБАР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ИЧ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НЕ П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Р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ЦЕ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ДУР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32000" y="1922400"/>
            <a:ext cx="7354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тав овај процес се прати веома осетљивом електроником која је програмирана тако да мозе истовремено да регулише више разл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тих подпритисака преко пумпног система у апарату. Мозе се радити са подпритиском од 0,9 атмосфера до испод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55 атмосфера које одговарају притиску на висини од око 5000 мета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механотерапија манипулацијам</a:t>
            </a:r>
            <a:r>
              <a:rPr b="0" lang="sr-CS" sz="3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мануелно истезање меких ткива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539640" y="90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МАНУЕЛНЕ ТЕРАПИЈСКЕ ТЕХНИК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ЕКСТЕНЗИОНЕ ПРОЦЕДУРЕ - ТРАКЦИЈ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53760" y="196488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ма подели по Laverniеux-а тракције се деле н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Истезањe у п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љи po м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то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ar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Пo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a (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ртикална,хоризонтална,нагибна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езање по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oll-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езање дистракционим столицама и столовима уз употребу манонмет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кализована истезања одређених делова кичме путем довођења болесниковог тела у одређене положа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езање у току активних кинезитерапијских вежб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Тракција слабинске и вратне кичм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11" descr=""/>
          <p:cNvPicPr/>
          <p:nvPr/>
        </p:nvPicPr>
        <p:blipFill>
          <a:blip r:embed="rId1"/>
          <a:stretch/>
        </p:blipFill>
        <p:spPr>
          <a:xfrm>
            <a:off x="1447920" y="4343400"/>
            <a:ext cx="5943600" cy="196524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19"/>
          <p:cNvGrpSpPr/>
          <p:nvPr/>
        </p:nvGrpSpPr>
        <p:grpSpPr>
          <a:xfrm>
            <a:off x="1258920" y="1773360"/>
            <a:ext cx="9494280" cy="2611080"/>
            <a:chOff x="1258920" y="1773360"/>
            <a:chExt cx="9494280" cy="2611080"/>
          </a:xfrm>
        </p:grpSpPr>
        <p:sp>
          <p:nvSpPr>
            <p:cNvPr id="208" name="AutoShape 18"/>
            <p:cNvSpPr/>
            <p:nvPr/>
          </p:nvSpPr>
          <p:spPr>
            <a:xfrm>
              <a:off x="1258920" y="1773360"/>
              <a:ext cx="9494280" cy="26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9" name="Picture 20" descr=""/>
            <p:cNvPicPr/>
            <p:nvPr/>
          </p:nvPicPr>
          <p:blipFill>
            <a:blip r:embed="rId2"/>
            <a:stretch/>
          </p:blipFill>
          <p:spPr>
            <a:xfrm>
              <a:off x="2409480" y="1773360"/>
              <a:ext cx="4145400" cy="2235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СОНОТЕРАПИЈ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нотерапија подразумева примену звука у терапијске сврхе. Под звуцном енергијом подразумева се облик таласастог кретања, представљен лонгитудиналним механ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м треперењем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стица материје, које се у виду згушњавања и разр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ђ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ања простире кроз гасовиту, т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у и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сту средину. Брзина простирања зависи од фреквенције и таласне д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СОНОТЕРАПИЈ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71600"/>
            <a:ext cx="8229600" cy="34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= F * 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 - фреквeнц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X - талaснa дужиn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 - брзина пrостiraњ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Подела механотерапиј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1047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мануелна маса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0520" indent="-1047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специјални облици маса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0520" indent="-1047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паратурна маса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0520" indent="-1047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хипобарицне процеду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0520" indent="-1047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мануелне терапијске технике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(манипулациј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0520" indent="-1047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сктензионе процедуре (тракциј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0520" indent="-1047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сонотерапија (инфра и ултразвук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0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Ултразву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вуцни таласи преко 16 КХз који се простиру у облику лонгитудианлних таласа изазивајуци периоде дилатације и компресије (притисак и разређење) називају се ултразвук. Биолошке ефекте ултразвука изуцавао је медју првима Похлман 1938-1950. године. Његови налази су допринели да се ултразвук широко користи у медицинској пракси. Ултразвук је откривен 1917. године од стране Лагевин-а, а прва примена у медицини датира од 1928. године када су Wоод и Лоомис приказали терапијске ефекте деловања ултразвука на цовецји организ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11280" y="1609560"/>
            <a:ext cx="8137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Ултразвук који се користи у физикалној медицини има фреквенцију 870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KHz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и таласну дузину 0,4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m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. Интензитет ултразвука подразумева звуцну енергију коју емитује извор ултразвука на јединицу површине и изразава се у W/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2. Брзина простирања ултразвука кроз неку материју зависи од еластицних својстава средине и температуре. Најве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у брзину простирања ултразвук има кроз метале - гвоз|е око 5000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sec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, кроз воду око 1500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sec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. кроз зива ткива 1540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sec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а најспорије кроз ваздух 300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sec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. Пораст температуре средине кроз коју пролази ултразвук условљава и повецање његове брзин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ичке особин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ичке особин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55640" y="1981080"/>
            <a:ext cx="808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На граници две средине са разлицитим акусти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ким отпором, ултразвук се делом прелама а делом рефлектује, што зна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и да се само један део енергије ултразвука преноси у другу средину и побу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ђ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ује даље таласање. То говори да, иако се ултразвук преноси кроз средину праволинијски, у нашем организму, због разлицитог акустицног отпора наших ткива, он се прелама и мења правац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ичке особин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71640" y="2230200"/>
            <a:ext cx="7488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ролазе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и кроз разли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ите акусти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не средине део ултразву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не енергије се апсорбује и претвара у топлотну енергију. Апсорбција ултразвуцних таласа зависи од њихове фреквенције и звуцне проводљивости средине. Уколико је фреквенција ве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а, то је и апсорпција ултразву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не енергије ве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а. Применом фреквенције од 1 М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Hz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(1000 К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Hz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) дубина је 2-5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, да би фреквенција од 3 М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Hz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имала продорност 1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ичке особин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след талaсањa средине кроз коју пролази ултразвук у фазaма згушњавaња (компресије) и разре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ђ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ења (декомпресије - дилатaције) мења се и прит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ак. Променe прит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ка су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олико ве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 уколико је амплитуда осциловањa ве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Физичке особин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000" y="4292640"/>
            <a:ext cx="8218440" cy="18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Честице материје које се на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ђ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у у пољу ултразву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ног осциловања имају брзину у моменту промене правца кретања која се мозе упоредити са брзином у центрифугама на 20.000 обртаја у минути. Сликовито изразено, када би запуша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од плуте за литарску флашу могао добити толико убрзање, вршио би притисак од 300 kgr/cm2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6" name="Object 9"/>
          <p:cNvGraphicFramePr/>
          <p:nvPr/>
        </p:nvGraphicFramePr>
        <p:xfrm>
          <a:off x="2700360" y="1268280"/>
          <a:ext cx="3860640" cy="28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268280"/>
                    <a:ext cx="3860640" cy="28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римарно физи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о деловањ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механи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 деловањ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терми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ко деловањ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физикохемијско деловањ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неурорефлексно деловањ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екундарно физ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олoшко деловањ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16000" y="21337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налгет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и ефека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пазмолит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и ефека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нтиинфламаторно деловањ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импатиколит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и ефекат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бољшање микроциркулације, трофике и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егенерације ткив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в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на пропустљивост целијске мембран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в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ње биосинтезе беланцевин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в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ње мишицног тонус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в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ње ресорпције екстравазата и продуката 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лијског метаболиз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парати и опрем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5600" cy="45306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51200" y="1599840"/>
            <a:ext cx="4035600" cy="4530600"/>
          </a:xfrm>
          <a:prstGeom prst="rect">
            <a:avLst/>
          </a:prstGeom>
          <a:noFill/>
          <a:ln w="76320">
            <a:solidFill>
              <a:srgbClr val="7b46d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 добијање ултразвука користе се следе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извор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) механ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) магнетостриктивн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ц) електромехани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ехани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ки 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агнетостриктивни 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звор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)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еханицки извор је звуцна сирена. Перфорирана плоца се окреце неколико десетина хиљада пута у секунди око своје осе. Кроз ове перфорације на плоци пропушта се ваздух и ствара ултразвук фреквенције до 35 KH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)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агнетостриктивни извор је израз да се неке феролегуре у јаком магнетном пољу деформишу (магнетострикција) и на излазу ствара се ултразвук фреквенције до 175 KHz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032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Облици масаж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Постоји више методи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ч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ких покрета руку којима се изводи класи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ч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а терапијска маса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. Као основни видови издвајају с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6d1ec"/>
                </a:solidFill>
                <a:latin typeface="France YU"/>
                <a:ea typeface="Times New Roman"/>
              </a:rPr>
              <a:t>гла</a:t>
            </a:r>
            <a:r>
              <a:rPr b="1" lang="sr-CS" sz="2800" spc="-1" strike="noStrike">
                <a:solidFill>
                  <a:srgbClr val="86d1ec"/>
                </a:solidFill>
                <a:latin typeface="France YU"/>
                <a:ea typeface="Times New Roman"/>
              </a:rPr>
              <a:t>ђ</a:t>
            </a:r>
            <a:r>
              <a:rPr b="1" lang="en-GB" sz="2800" spc="-1" strike="noStrike">
                <a:solidFill>
                  <a:srgbClr val="86d1ec"/>
                </a:solidFill>
                <a:latin typeface="France YU"/>
                <a:ea typeface="Times New Roman"/>
              </a:rPr>
              <a:t>ењ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6d1ec"/>
                </a:solidFill>
                <a:latin typeface="France YU"/>
                <a:ea typeface="Times New Roman"/>
              </a:rPr>
              <a:t>трљањ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6d1ec"/>
                </a:solidFill>
                <a:latin typeface="France YU"/>
                <a:ea typeface="Times New Roman"/>
              </a:rPr>
              <a:t>гњецењ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6d1ec"/>
                </a:solidFill>
                <a:latin typeface="France YU"/>
                <a:ea typeface="Times New Roman"/>
              </a:rPr>
              <a:t>лупкањ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6d1ec"/>
                </a:solidFill>
                <a:latin typeface="France YU"/>
                <a:ea typeface="Times New Roman"/>
              </a:rPr>
              <a:t>вибрације</a:t>
            </a:r>
            <a:r>
              <a:rPr b="0" lang="en-GB" sz="2800" spc="-1" strike="noStrike">
                <a:solidFill>
                  <a:srgbClr val="86d1ec"/>
                </a:solidFill>
                <a:latin typeface="France YU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Електромеханички извор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73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)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лектромехан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и (пиезоелектр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и) извор користи особину кварцних кристала, сењетових соли (турмалина и др. материја) да се при излагању наизмен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о компресији и декомпресији на површини тих материја ствара електрицитет. Уколико сада те материје излозимо деловању високофрекевнтног електромагнетског поља (високофреквентне струје) доб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мо обрнути пијезоелектр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и ефекат и продукцију ултразвука. Фреквенција м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 бити и преко милион осцилација у секунд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Техника примене ултразву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5600" cy="45306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2"/>
          <a:stretch/>
        </p:blipFill>
        <p:spPr>
          <a:xfrm>
            <a:off x="4651200" y="1600200"/>
            <a:ext cx="40356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Дозирање ултразву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У односу на интензитет, дозе ултразвука се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еле н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слабе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,05-0,4 W/cm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средњe: 0,5-1,0 W/cm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јаке дозe: преко 1 W/cm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мпулсни ултразву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057040"/>
            <a:ext cx="7643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Импулсни ултразвук представља дисконтинуирану примену ултразвука, који се добија периоди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ним прекидима континуираног ултразвука. Сви, данас располозиви, апарати за ултразвук имају могу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ност емитовања и константног и импулсног ултразвука. Фреквенција импулсног ултразвука нај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еш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е је 100 </a:t>
            </a:r>
            <a:r>
              <a:rPr b="0" lang="sr-Latn-CS" sz="2600" spc="-1" strike="noStrike">
                <a:solidFill>
                  <a:srgbClr val="ffffff"/>
                </a:solidFill>
                <a:latin typeface="Times New Roman"/>
              </a:rPr>
              <a:t>Hz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а однос трајања ултразву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них таласа (импулса) и паузе се кре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е у распону од 1:5 до 1:10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мпулсни ултразву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7" name="Object 3"/>
          <p:cNvGraphicFramePr/>
          <p:nvPr/>
        </p:nvGraphicFramePr>
        <p:xfrm>
          <a:off x="1187280" y="1844640"/>
          <a:ext cx="7956720" cy="376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956720" cy="37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Индикациј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087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умат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 артритис, дегенеративни реуматизам,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pitrenova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ракутра, морбус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kchterew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успорено стварање калуса (ниске дозе),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deck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атрофија (ниске дозе), дерматозе (фреквенција 3 М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z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неуралгије, каузалгије, разбијање каменца у унутрашњим органима (фокусирају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ултразвук), ампутациони неуриноми, морбус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unau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деловање на ганглион стелатум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Контраиндикациј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Пошто су на ултразву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ч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не таласе најосетљивије високо диферентоване 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ћ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лије ЦНС као и уобли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ч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ни крвни елементи) отуда основна контраиндикација је примена ултразвука у пределу главе, медулае спиналис, гравидне материце гравидне материце и у де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ч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и</a:t>
            </a:r>
            <a:r>
              <a:rPr b="0" lang="sr-C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ј</a:t>
            </a:r>
            <a:r>
              <a:rPr b="0" lang="en-GB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ем узрасту.</a:t>
            </a:r>
            <a:r>
              <a:rPr b="0" lang="en-US" sz="2800" spc="-1" strike="noStrike">
                <a:solidFill>
                  <a:srgbClr val="ffffff"/>
                </a:solidFill>
                <a:latin typeface="France YU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Хватови масаж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457200" y="2276640"/>
            <a:ext cx="3430440" cy="385416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5"/>
          <p:cNvSpPr/>
          <p:nvPr/>
        </p:nvSpPr>
        <p:spPr>
          <a:xfrm>
            <a:off x="471240" y="170028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Гла</a:t>
            </a: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ђ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ењ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6736320" y="2060640"/>
            <a:ext cx="164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Гњечењ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2"/>
          <a:stretch/>
        </p:blipFill>
        <p:spPr>
          <a:xfrm>
            <a:off x="4140360" y="2708280"/>
            <a:ext cx="4255920" cy="34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Хватови масаж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784080" y="2492280"/>
            <a:ext cx="3211560" cy="3608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"/>
          <p:cNvPicPr/>
          <p:nvPr/>
        </p:nvPicPr>
        <p:blipFill>
          <a:blip r:embed="rId2"/>
          <a:stretch/>
        </p:blipFill>
        <p:spPr>
          <a:xfrm>
            <a:off x="5219640" y="2606760"/>
            <a:ext cx="3138480" cy="35240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5"/>
          <p:cNvSpPr/>
          <p:nvPr/>
        </p:nvSpPr>
        <p:spPr>
          <a:xfrm>
            <a:off x="725040" y="1916280"/>
            <a:ext cx="156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Че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ља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7055640" y="1844640"/>
            <a:ext cx="13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рља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3560" y="328320"/>
            <a:ext cx="81583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Хватови масаж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900000" y="2606760"/>
            <a:ext cx="3138480" cy="3524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1" name="Picture 4" descr=""/>
          <p:cNvPicPr/>
          <p:nvPr/>
        </p:nvPicPr>
        <p:blipFill>
          <a:blip r:embed="rId2"/>
          <a:stretch/>
        </p:blipFill>
        <p:spPr>
          <a:xfrm>
            <a:off x="5219640" y="2690640"/>
            <a:ext cx="3062520" cy="34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82" name="Rectangle 5"/>
          <p:cNvSpPr/>
          <p:nvPr/>
        </p:nvSpPr>
        <p:spPr>
          <a:xfrm>
            <a:off x="874080" y="2060640"/>
            <a:ext cx="28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Лупкање - сецка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6662880" y="213372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Вибр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00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Специјални облици маса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979280" y="2327040"/>
            <a:ext cx="6707160" cy="36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) маса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 везивног тки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б) маса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 перио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ц) маса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 нервних таца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д) сегментна маса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00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АПАРАТУРНА МАСА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63280" y="2327040"/>
            <a:ext cx="6923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) Пнеумомаса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 - синкардијал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б) Вибромаса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ц) Хидромаса</a:t>
            </a:r>
            <a:r>
              <a:rPr b="0" lang="sr-CS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ж</a:t>
            </a:r>
            <a:r>
              <a:rPr b="0" lang="en-GB" sz="3200" spc="-1" strike="noStrike">
                <a:solidFill>
                  <a:srgbClr val="ffffff"/>
                </a:solidFill>
                <a:latin typeface="France YU"/>
                <a:ea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паратурна масаж</a:t>
            </a: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3200400" cy="345600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140360" y="2781360"/>
            <a:ext cx="518472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а) Пнеумомасажа - синкардијална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б) Вибромасажа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ц) Хидромасажа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(хидрокинетичке процедуре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9:40:59Z</dcterms:created>
  <dc:creator>WIN98SE</dc:creator>
  <dc:description/>
  <dc:language>en-US</dc:language>
  <cp:lastModifiedBy>katarinaparezanovicilic@gmail.com</cp:lastModifiedBy>
  <dcterms:modified xsi:type="dcterms:W3CDTF">2020-09-26T16:59:47Z</dcterms:modified>
  <cp:revision>15</cp:revision>
  <dc:subject/>
  <dc:title>MEHANOTERAPIJA </dc:title>
</cp:coreProperties>
</file>