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FCEF-D20F-4BCF-A731-25862516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80C-D87A-49F5-9899-98804BC1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344B-CE91-4631-86E7-523B295F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B8AA-FBFD-4B88-9F1F-4B2B323C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36B3-8CA3-47F3-852D-AFF1702B9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67CD-EE82-4E52-AC6E-A5D0C9D0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10C5-025A-4BF9-95D0-39F39C75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3F56-7CED-4481-96F9-FE04491C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76A5-5738-45E6-8B49-41A3D339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7CC0-DDB5-4B17-91D9-660C5781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0FA51-A9A2-4829-95C6-BC51F82E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370E-C78D-466A-A141-E3C2FAAE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4C75-F7FE-4822-B7CB-20832924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8DC4-E832-4D14-B09B-BD943321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7714-7EC6-4389-87C9-0696043E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850F-B11A-4D60-A7DB-BC588ECF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99B5-C9C5-49D2-9363-33CF4D9B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451-9040-4DA0-BC17-24259CA6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FB45-9888-4D34-9CB3-7EF1E3EA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791-C5A5-4FF8-B08E-E061D474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45F-B96A-4076-AD25-7F7D1699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36EE-A6CF-4FE3-8DD0-586B01E0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E825-D289-4EF2-99CB-6F7477C6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997-E1CF-4EDF-81BF-0D90664A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75EF-BB94-4061-91CE-36491955E7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6FBE5-16D7-49C8-86B0-98B5EFC375F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20000"/>
                </a:solidFill>
                <a:latin typeface="Tahoma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99640" y="2636640"/>
            <a:ext cx="727236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АИЗМЕНИ</a:t>
            </a:r>
            <a:r>
              <a:rPr b="1" lang="sr-Latn-CS" sz="4000" spc="-1" strike="noStrike">
                <a:solidFill>
                  <a:srgbClr val="720000"/>
                </a:solidFill>
                <a:latin typeface="Tahoma"/>
              </a:rPr>
              <a:t>Ч</a:t>
            </a:r>
            <a:r>
              <a:rPr b="1" lang="en-US" sz="4000" spc="-1" strike="noStrike">
                <a:solidFill>
                  <a:srgbClr val="720000"/>
                </a:solidFill>
                <a:latin typeface="Tahoma"/>
              </a:rPr>
              <a:t>НЕ СТРУЈ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60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изиоло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ш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фекат IFS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31640" y="1482840"/>
            <a:ext cx="57610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линичка и експериментална испитивања многих аутора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,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iedl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1960) показала су д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а постојаном фреквенцијом 9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ју аналгетички и симпатиколитички ефека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итмична учесталост од 0-1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азива активну хиперемију и убрзава метаболичке процесе као и елиминацију токсичних продуката. Ва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дилататорни ефекат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оказан је капилароскопијом, мерењем кожних температура, осцилографијом, хистохемијским и лабораторијским истраживањим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ikilov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1972) указује да се путем електромиографије може доказати стимулативно деловањ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I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а регенерацију повр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них нерава и мишић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395280" y="2490840"/>
            <a:ext cx="2655720" cy="223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75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инусоидне модулисане струје (руска стимулација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64000" y="2101320"/>
            <a:ext cx="3322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инусоидне модулисане струје у терапију је увео руски лекар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Jasnogordsk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1969. године. Синусоидне струје имају фреквенцију од 50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Терапијски ефекат се постиже кроз модулацију синусоидног облика са фреквенцијом од 10-15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539640" y="2184480"/>
            <a:ext cx="4681800" cy="26780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39640" y="508464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одулисање синусоидне струје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- дубина модулације 10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 - дубина модулације 50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3 - континуирани то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3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АТ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И ЕЛЕКТРИЦИТЕТ (франклинизација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д појмом "франклинизација" подразумева се примена статичког електрицитета високог напона (до 5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у терапијске сврхе. Изм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две електроде јавља се струја мале јачине, до 0,5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, а наелектрисање јона одговара активној електроди. Обично се користе ефекти негативних активних ј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новни ефекат је васодилатација којој претходи краткотрајна васоконстрикција. Вазодилатација условљава локално повишење температуре, а то условљава убрзани метаболиз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ликација може бити општа и локал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Високофреквентне струје (VF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149720"/>
            <a:ext cx="82868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исокофреквентне струје су струје са фреквенцијом преко 10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e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Никола Тесла је 1891. године први описао топлотни ефекат под дејство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V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струја. Следеће 1892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Arsonv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је испитивао ефекте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ује на човечији организам и утврдио да струја изнад 10.00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 изазива дражење нерава и мишића.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Negelschmid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1908) примену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а назива "диатермиа"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2" name="Object 19"/>
          <p:cNvGraphicFramePr/>
          <p:nvPr/>
        </p:nvGraphicFramePr>
        <p:xfrm>
          <a:off x="2124000" y="1557360"/>
          <a:ext cx="4751640" cy="23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557360"/>
                    <a:ext cx="4751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ВФС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McLennan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рв у епрувети постављена у поље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кратких таласа) брже се загрева него епрувета са серумом. Овај експеримент показује да се једна средина брже загрева ако има више честица (веће је трење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Essay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У раствор парафина сипа се мало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Na2CO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обија емулзија која кључа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нижој температури него на којој кључа вода. Разлози су као и у горњем пример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400" spc="-1" strike="noStrike">
                <a:solidFill>
                  <a:srgbClr val="ffcc66"/>
                </a:solidFill>
                <a:latin typeface="Tahoma"/>
              </a:rPr>
              <a:t>Kowarschik</a:t>
            </a:r>
            <a:r>
              <a:rPr b="0" lang="en-US" sz="2400" spc="-1" strike="noStrike">
                <a:solidFill>
                  <a:srgbClr val="ffcc66"/>
                </a:solidFill>
                <a:latin typeface="Tahoma"/>
              </a:rPr>
              <a:t>-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Раствор албумина (беланце) се коагулише у пољу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VF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а на 55-57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а у воденом купатилу на 62-64о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Експериментални докази физ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 (терм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ког) деловања 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VFS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-а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 организам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Експеримент </a:t>
            </a:r>
            <a:r>
              <a:rPr b="0" lang="sr-Latn-CS" sz="2800" spc="-1" strike="noStrike">
                <a:solidFill>
                  <a:srgbClr val="ffcc66"/>
                </a:solidFill>
                <a:latin typeface="Tahoma"/>
              </a:rPr>
              <a:t>Schliephake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-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екна хлеба се пресече на три дела и изме|у њих се ставе изолаторске плоче. Тада се на крајевима векне укључи дуготаласна дијатермија и после извесног времена се може констатовати, ако меримо температуру у исеченим деловима, да унутрашњидео векне има 5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спољашњи делови 6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Ако сада исту векну са постављеним изолаторским плочама укључимо у коло краткоталасне дијатермије, онда након извесног времена (10-15 минута) измеримо температуру она ће у свим деловима бити иста: 20о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во указује да дуготаласна дијатермија има особину кондуктивне проводне струје, а крактоталасна дијатермија која има већи број електромаг-нетских осцилација, има по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axwell-u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собину струја померања, односно капацитативних струј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одела 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V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34920" y="1341360"/>
            <a:ext cx="576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'Arsonvalizacija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</a:t>
            </a:r>
            <a:r>
              <a:rPr b="0" lang="sr-Latn-CS" sz="2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нција 1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b) Дуг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500.000 - 1.000.000 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c) крат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кот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 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диј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тер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(KTD) фреквeнција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10-100 MH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d) ултрак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раткоталасна д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фреквeнција 434,78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e) микротал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снa д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ијатермија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ahoma"/>
              </a:rPr>
              <a:t>ф</a:t>
            </a: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реквeнција 2.450 MHz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43280" y="1628280"/>
            <a:ext cx="4176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медицински апарати за краткоталасну дијатермију (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) су одашиљачи подручја кратких таласа. Како могу правити сметње у преносу сигнала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PT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саобраћаја, радиоталаса и сл., 1947. године усвојена је м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народна конвенција о таласној дужини електромедицнских апарата. Према тој класификацији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KTD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ма таласне дужине од 22,12 метара и 11,06 метара а фреквенцију 13,56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односно 27,1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0356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атк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538200" y="1600200"/>
            <a:ext cx="4033800" cy="449568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Дозирањ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а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нема никаквог осећаја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олиготермичка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једва уочљив 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пријата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сећај топлоте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хипертермичка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јак осећај топлоте, али још увек није непријата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Ултракраткоталасна дијатермија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Ултракратки таласи настају у генератору са магнетроном. Учесталост се креће од 100-5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У терапијским апаратима фреквенција је 433,92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а дужина 69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рименом овог облика постигнут је повољнији ефекат загревања масног и мишићног ткива који износи 4:1, а код К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зрака однос је 9:1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Електрода је у виду рефлектора који може имати различито поље зрачења. Дозирање се врши у (W) а максимална доза је 200 W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755280" y="4005000"/>
            <a:ext cx="7929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Топлотни ефекат је резултат конверзије електромагнетских таласа у топлоту. Дејство се огледа, углавном, на крвним судовима капиларног реда који се проширују 3-10 пута. Проширење се након зрачења одржава и неколико дана а условљено је не смо топлотним него и симпатиколитичним ефектом услед депресивног деловања ултракратких таласа на симпатикус. Базални метаболизам се повећава (</a:t>
            </a:r>
            <a:r>
              <a:rPr b="0" lang="sr-Latn-CS" sz="2000" spc="-1" strike="noStrike">
                <a:solidFill>
                  <a:srgbClr val="ffcc66"/>
                </a:solidFill>
                <a:latin typeface="Tahoma"/>
              </a:rPr>
              <a:t>Nasset</a:t>
            </a: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) као и побољшање имунолошких снага организма (Петровић, 1972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 СТРУ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931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 струје карaктери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 промена правца кретањa јона и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тензите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Микроталасна дијатерми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980720"/>
            <a:ext cx="8136000" cy="20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 микроталасима се подразумевају електромагнетске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адијације високе фреквенције и мале таласнедужине. Фреквенција се креће од 2.000-18.00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а таласне дужине 15,0-1,67 cm. У терапијским апаратима се користи фреквенција 2.450 М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и таласна дужина од 12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cm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9280" y="4005360"/>
            <a:ext cx="8147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ahoma"/>
              </a:rPr>
              <a:t>Основно и примарно физичко деловање на организам је стварање ендогене топлоте у озраченом делу тела. Продорност ових зрака је око 5 цм. Из тих разлога се дубље положена ткива не могу третирати овим физичким агенсом. Ниски топлотни коефицијент абсорпције у масном ткиву представља значајан моменат, јер се загревање масног ткива у корелацији са загревањем мишићног ткива доводи у однос 1: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дикаци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Трауматологија (не користи се код свежих повреда): повреде меких ткива, стања после прелома костију и то након фазе имобилизације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Реуматологија: запаљењска обољења у хроничном стадијуму, дегенеративна реуматска обољења, ванзглобни реуматизам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Гинекологија: хронична неспецифична гинеколошка обољења - аднекситиси, салнигитиси, параметиртиси и др; аменеореја, стерилитет (примарни и секундарни)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РЛ: синуситис, хронични отитис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Неурологија: неуралгије, неуритиси, спинална обољења;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стале медицинске дисцпилине: КТД се користи код свих хроничних обољења као што су стања после хируршких интервенција са инфилтратима, хроничних кожних обољења, хроничног бронхитиса и д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77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464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паце макер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онтраиндика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920" y="2133720"/>
            <a:ext cx="7200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ољења која применом К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могу довести до погоршања, pace mаkеr, хеморагична дијатеза, гравидитет, Т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B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малигна обољења, поремећај сензибилитета третираног дела тела, оклузивна артеријска обољења, тешка срчана и бубрежна обољења и др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аизмени</a:t>
            </a:r>
            <a:r>
              <a:rPr b="0" lang="sr-Latn-CS" sz="32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е струје ниске фреквенције (нискофреквентне струј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516040"/>
            <a:ext cx="82296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а) фарадска струј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б) транскутана електри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на неурална стимулација (TE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Фарадска струј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3645000"/>
            <a:ext cx="835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Фреквенција фарадске струје је до 100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 Hz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Фарадска струја је откривена од стране Фарадаy-а 1831. године, и то преко индукције у секундарном калему индукционог апарата, а као последица наизменичног отварања и затварања струјног кола у примарном калему. Овај облик струје можемо назвати и "класични облик" фарадске струје који се карактерише асиметријом позитивне и негативне фазе једног циклуса као и ирегуларности циклуса. Данас се добија регуларна фарадска струја "неофарадска струја" која има трајање 1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а паузу 20 </a:t>
            </a: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m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 користи се у дијагностичке свр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2556000" y="1352520"/>
            <a:ext cx="4033800" cy="21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ехника приме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076280"/>
            <a:ext cx="807552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Фарадска струја у терапијске сврхе се користи као стабилна или лабилна фарадиза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83080" cy="2514600"/>
          </a:xfrm>
          <a:prstGeom prst="rect">
            <a:avLst/>
          </a:prstGeom>
          <a:ln w="9360">
            <a:solidFill>
              <a:srgbClr val="be7960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ЕС у терапи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бола корист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пулсе који су правоугли, бифазни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ли монoфазни. Фреквенција је од 2-200Hz. Деловање ТЕНС терапије заснива се на принципу дуализма, односно "гате 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нтрол" терапије. Новија истраживањa указуј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на значaј ендогеног опијатног и неопијатног си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тема у постизању анaлгетског ефeкта. Опијатни рецeптори су ми, капa, делта, а супстанце које се ослоба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ју кроз ТЕНС су енкефа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енд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динорф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Ове ступстанце имају ефeкат сличан морфијум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на томе се заснива блокирање болних сензација у одр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ној регијi (AA Cheng, Pomeranz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Транскутана електри</a:t>
            </a:r>
            <a:r>
              <a:rPr b="0" lang="sr-Latn-CS" sz="44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а стимулација (TENS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матра се да коришћењe велик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 интензите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 изаzива "стрес анaлгезију" (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Zhang i s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991). Како се анaлгетски ефeкти могу постић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 са интензитеtима мањим од 40 мА, али је значaјно применит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адекватну фреквенцију, то је у клин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кој пракси овај начин прихватљив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ј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рује средње фреквенциј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2205000"/>
            <a:ext cx="692316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) струје с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ње ф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венциј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- интерф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ер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нт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Nemec stru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б) Синусо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д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о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у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л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и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е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т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је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Р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с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 стимулација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нтеферентне Nemec-ove струје (I.F.S.)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060280"/>
            <a:ext cx="40338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Апарат за нискофреквентне струје се састоји из два струјна кол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константне фреквенције 4000 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ујно коло варијабилне фкреквенције 3900-4100</a:t>
            </a: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H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572000" y="5013360"/>
            <a:ext cx="4033800" cy="1014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4572000" y="2063880"/>
            <a:ext cx="3313080" cy="2786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katarinaparezanovicilic@gmail.com</cp:lastModifiedBy>
  <dcterms:modified xsi:type="dcterms:W3CDTF">2020-09-26T17:00:29Z</dcterms:modified>
  <cp:revision>12</cp:revision>
  <dc:subject/>
  <dc:title>NAIZMENIČNE STRUJE</dc:title>
</cp:coreProperties>
</file>